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gif" ContentType="image/gi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5463-2772-4C25-BDD6-F5293289A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 this activity we are trying to demonstrate fraction equival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y using something students can relate to, such as pizza slices, we are demonstrating how to use fraction circl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demonstration we have three characters, Luigi, Dino and Guido who each want to eat half a pizza.  Each pizza has a different number of pieces so whether Luigi eats three pieces, Dino 4 pieces or Guido 5 pieces, they are still eating the same amount of piz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activity we want to dispel the misunderstanding of denominators.  Denominators should be thought of as the “size of the piece” in the fr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using fraction circles we show that when adding fractions if you add both numerator and denominator you get an incorrect ans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ctivity is typical of EQAO questioning.  The student is given a incorrect solution and asked to explain what is wrong wi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d Retell (p. 100 – 101 – Think Literacy: Mathemat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be determine by the pres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 who will be partner A and who will be partner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A speaks for one minute and tells partner A’s talk then responds to what partner A said and mentions anything of importance that partner A did not mention on the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ner A retells what partner B jus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al Writing (p. 90-94, Think Literacy: Mathemat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writing is reflecting on feelings, attitudes, successes and challenges in journal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AC1-5856-4EDC-95E1-53A7C0D8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27D-5BFA-4582-9377-F0BE69A5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244-02E4-42EB-9DD3-45AA5A12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4F7-66C6-4C68-84E0-9934CE45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6F1-DD29-4436-9B8D-CF073E47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88B-C630-40F5-AAA4-EB7B7F79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4E3-1730-4F2F-868E-FD6433B8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D31-FAE8-456C-906E-49121048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D71-1AB5-4E8C-B417-9FB1A1B2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067-C50E-4528-A7EB-8B443B94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6CA-89DA-4208-ABB3-09C25AD2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FA3-0BF8-40A9-BD4F-5FEB425F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ffce"/>
          </a:solidFill>
          <a:ln w="127080">
            <a:solidFill>
              <a:srgbClr val="5a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380880"/>
            <a:ext cx="8458200" cy="6172200"/>
          </a:xfrm>
          <a:prstGeom prst="rect">
            <a:avLst/>
          </a:prstGeom>
          <a:solidFill>
            <a:srgbClr val="ceffce"/>
          </a:solidFill>
          <a:ln w="127080">
            <a:solidFill>
              <a:srgbClr val="ffe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342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342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342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0AE5-244B-41D8-B97D-4B44C71CE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781680" y="4495680"/>
            <a:ext cx="1762200" cy="169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Fraction Circle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245592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a31ff"/>
                </a:solidFill>
                <a:latin typeface="Arial"/>
              </a:rPr>
              <a:t>Building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a31ff"/>
                </a:solidFill>
                <a:latin typeface="Arial"/>
              </a:rPr>
              <a:t>Dispelling Mis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2314440"/>
            <a:ext cx="495288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Leading Math Succes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42ff"/>
                </a:solidFill>
                <a:latin typeface="Arial"/>
              </a:rPr>
              <a:t>A focus on deep learning of particular mathematics topics – through a variety of strategies, including working with concrete materials – leads to greater conceptual depth. (Ben-Chaim, Fey, Fitzgerald, Benedetto, &amp; Miller, 1998; Fletcher, Hope &amp; Wagner, 2001; Siemon et al., 2001</a:t>
            </a: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3353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Introducing Fraction Circle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2314440"/>
            <a:ext cx="4952880" cy="390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992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7301"/>
                </a:moveTo>
                <a:lnTo>
                  <a:pt x="7788" y="7301"/>
                </a:lnTo>
                <a:lnTo>
                  <a:pt x="8171" y="7667"/>
                </a:lnTo>
                <a:lnTo>
                  <a:pt x="17379" y="7667"/>
                </a:lnTo>
                <a:lnTo>
                  <a:pt x="17936" y="8224"/>
                </a:lnTo>
                <a:lnTo>
                  <a:pt x="17936" y="8772"/>
                </a:lnTo>
                <a:lnTo>
                  <a:pt x="19782" y="8772"/>
                </a:lnTo>
                <a:lnTo>
                  <a:pt x="20147" y="8224"/>
                </a:lnTo>
                <a:lnTo>
                  <a:pt x="20887" y="8224"/>
                </a:lnTo>
                <a:lnTo>
                  <a:pt x="20887" y="13376"/>
                </a:lnTo>
                <a:lnTo>
                  <a:pt x="20147" y="13376"/>
                </a:lnTo>
                <a:lnTo>
                  <a:pt x="19782" y="12828"/>
                </a:lnTo>
                <a:lnTo>
                  <a:pt x="17936" y="12828"/>
                </a:lnTo>
                <a:lnTo>
                  <a:pt x="17936" y="14107"/>
                </a:lnTo>
                <a:lnTo>
                  <a:pt x="8354" y="14107"/>
                </a:lnTo>
                <a:lnTo>
                  <a:pt x="8354" y="9877"/>
                </a:lnTo>
                <a:lnTo>
                  <a:pt x="8171" y="9877"/>
                </a:lnTo>
                <a:lnTo>
                  <a:pt x="7788" y="10243"/>
                </a:lnTo>
                <a:lnTo>
                  <a:pt x="6874" y="10243"/>
                </a:lnTo>
                <a:close/>
              </a:path>
            </a:pathLst>
          </a:custGeom>
          <a:noFill/>
          <a:ln w="9360">
            <a:solidFill>
              <a:srgbClr val="e731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Virtual Fraction Piece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http://matti.usu.edu/nlvm/nav/vlibrary.htm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2590560" cy="2068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9880" y="2666880"/>
            <a:ext cx="25909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Developing Understanding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556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Each person wants to eat one half of his pizza.  How many pieces must each person eat?  Record your answer in fractional form.    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76520" y="1676520"/>
          <a:ext cx="533376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3337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Dispelling Misunderstanding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When adding fractions, Joey adds the numerators and the denominators as follows: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90920" y="2924280"/>
                <a:ext cx="14526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09480" y="4114800"/>
            <a:ext cx="518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How can you use fraction circles to dispel this misunderstand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Reflection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Timed Re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How can you use fraction circles to show the relationship among fractions, decimals, and percenta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Person A: Answe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Person B: Retell what you just he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18288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Explore fraction activities on the National Library of Virtual Manipulatives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42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342ff"/>
                </a:solidFill>
                <a:latin typeface="Arial"/>
              </a:rPr>
              <a:t>http://matti.usu.edu/nlvm/nav/vlibrary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Journal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Now that I’ve work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fraction circles I fee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828800" cy="131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14000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Leading Math Succes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The key to the successful use of manipulatives lies in the bridge - which must be built by the teacher - between the artifact and the underlying mathematical concepts.”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424800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8120" y="4267080"/>
            <a:ext cx="37051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1:47:04Z</dcterms:created>
  <dc:creator>Judy Dussiaume</dc:creator>
  <dc:description/>
  <dc:language>en-US</dc:language>
  <cp:lastModifiedBy>Ross Isenegger</cp:lastModifiedBy>
  <cp:lastPrinted>2005-04-21T15:52:13Z</cp:lastPrinted>
  <dcterms:modified xsi:type="dcterms:W3CDTF">2005-04-29T16:36:35Z</dcterms:modified>
  <cp:revision>31</cp:revision>
  <dc:subject/>
  <dc:title>Using Manipulatives to Build Understanding</dc:title>
</cp:coreProperties>
</file>